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F9F5-7F1D-4F1D-B486-0E1942074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0516-AD59-4D8D-B9BD-E729BBFB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1295-90A7-4815-9DF6-CC0B4E177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0094-33CA-4285-B0E5-417A5AD9E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277D-C3D5-4C76-9B25-CEC33BE7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BF62-AC1E-438C-A20B-EB00CA66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1569-D5C3-4117-9B89-CCE84501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6E61-134D-4688-A22D-FFEAA775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E2A1-50A4-47BC-80F6-0F8696FC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4AF0-8767-445C-8C5B-641FD8FC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FB32-23B0-4E52-897F-3B910616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08C4-FB14-43F3-9EB6-AC6B8562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0459-2F53-43E6-BFD4-D1FE3EA8A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nchantedlearning.com/usa/statesbw/colorado.shtml" TargetMode="External"/><Relationship Id="rId3" Type="http://schemas.openxmlformats.org/officeDocument/2006/relationships/image" Target="../media/image4.png"/><Relationship Id="rId4" Type="http://schemas.openxmlformats.org/officeDocument/2006/relationships/hyperlink" Target="http://www.enchantedlearning.com/usa/states/colorado/" TargetMode="External"/><Relationship Id="rId5" Type="http://schemas.openxmlformats.org/officeDocument/2006/relationships/hyperlink" Target="http://www.enchantedlearning.com/usa/flags/colorado/coloradoflag.shtml" TargetMode="External"/><Relationship Id="rId6" Type="http://schemas.openxmlformats.org/officeDocument/2006/relationships/image" Target="../media/image5.png"/><Relationship Id="rId7" Type="http://schemas.openxmlformats.org/officeDocument/2006/relationships/hyperlink" Target="http://www.enchantedlearning.com/usa/states/colorado/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http://www.fatbirder.com/links_geo/america_united_states/colorado.html" TargetMode="External"/><Relationship Id="rId4" Type="http://schemas.openxmlformats.org/officeDocument/2006/relationships/hyperlink" Target="http://www.mydearvalentine.com/flowers/Image/rocky%20mountain%20columbine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5000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00800" y="4419720"/>
            <a:ext cx="2438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ob J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16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447920" y="990720"/>
            <a:ext cx="5715000" cy="39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0000ff"/>
                    </a:gs>
                    <a:gs pos="100000">
                      <a:srgbClr val="00ff00"/>
                    </a:gs>
                  </a:gsLst>
                  <a:lin ang="5400000"/>
                </a:gradFill>
                <a:latin typeface="Impact"/>
              </a:rPr>
              <a:t>Colorad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0000ff"/>
                  </a:gs>
                  <a:gs pos="100000">
                    <a:srgbClr val="00ff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952880" y="3886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43000" y="5486400"/>
            <a:ext cx="47242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ado’s State Song: Fifty State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lora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10/25/11 http://www.50stat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Color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Capital: Den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Population: 5,029,19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Entered the Union: August 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Bookman Old Style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, 187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Motto: Nothing without provi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Nick Name: Centennial State, Colorful Color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Flower: Rocky Mountain Columb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Bird: Lark Bun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Song: Where the Columbines G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Interesting Facts: There are 64 counties, Tim Allen was born in Denver, Colorado, the Governor is John Hickenlooper, and Colorado was the 3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Bookman Old Style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 state to be admitted to the un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24280" y="1143000"/>
            <a:ext cx="4172040" cy="3247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800600" y="4495680"/>
            <a:ext cx="41148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lora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ctober 1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nchantedlearning.com/usa/states/colorad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1565280"/>
            <a:ext cx="3352680" cy="2249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280" y="4114800"/>
            <a:ext cx="4572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lora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ctober 18th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enchantedlearning.com/usa/states/colorad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52880" y="3808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the Colorado State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6858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the Colorado State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029200" y="1371600"/>
            <a:ext cx="3181320" cy="3143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029200" y="4572000"/>
            <a:ext cx="3581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lora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ctober 1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fatbirder.com/links_geo/america_united_states/colorado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See full 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" y="1447920"/>
            <a:ext cx="3505320" cy="3338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48769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lora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ctober 18th, 2011, http://www.fatbirder.com/links_geo/america_united_states/colorado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60948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beautiful picture of a Rocky Mountain Columb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6094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magnificent picture of a Lark Bun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All images Copyright © 1997 - 2000 WriteLine. All Rights Reserved. Deer Mountain"/>
          <p:cNvPicPr/>
          <p:nvPr/>
        </p:nvPicPr>
        <p:blipFill>
          <a:blip r:embed="rId2"/>
          <a:stretch/>
        </p:blipFill>
        <p:spPr>
          <a:xfrm>
            <a:off x="685800" y="838080"/>
            <a:ext cx="7848720" cy="4648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14400" y="5791320"/>
            <a:ext cx="7391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 Cards From America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lora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10/25/11, http://www.postcardsfrom.com/t1/990818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38088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the Rocky Mountain National Pa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All images Copyright © 1997 - 2000 WriteLine. All Rights Reserved. Emerald Lake"/>
          <p:cNvPicPr/>
          <p:nvPr/>
        </p:nvPicPr>
        <p:blipFill>
          <a:blip r:embed="rId2"/>
          <a:stretch/>
        </p:blipFill>
        <p:spPr>
          <a:xfrm>
            <a:off x="457200" y="533520"/>
            <a:ext cx="8153280" cy="5435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371600" y="60199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 Cards From America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lora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10/25/11, http://www.postcardsfrom.com/t1/990818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76212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n awesome view of the Rocky Mounta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3:12:10Z</dcterms:created>
  <dc:creator>install</dc:creator>
  <dc:description/>
  <dc:language>en-US</dc:language>
  <cp:lastModifiedBy>install</cp:lastModifiedBy>
  <dcterms:modified xsi:type="dcterms:W3CDTF">2011-10-26T13:55:58Z</dcterms:modified>
  <cp:revision>9</cp:revision>
  <dc:subject/>
  <dc:title>Slide 1</dc:title>
</cp:coreProperties>
</file>